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811-581D-438C-9E48-5C270506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794-9DCE-4328-A495-AD31639A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D7035-C6A8-4256-A870-4C5F9A34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37789-4BF8-4CD2-AA0A-ADCDD990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479CB-D81C-442E-94A5-DD864263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B6006-0FEB-4C85-89F5-D98D483C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82D0D-6AD7-4405-AA88-EC5D19F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4F2D8-B028-41B0-8066-2B132ACB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779B5-7816-437C-BF56-D465848E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6B491-8D1C-4201-8069-D12DC513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C4DE7-572E-4BE9-9A8D-4DD5CE50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9E928-475B-4DF0-8F5A-1AB7248C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CD5-8FB6-4620-84FF-280E2571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6B26D-E55E-41BB-87D6-154B08BE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6ABF7-804D-4A8B-AB1B-A5ABC162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A3172-23CD-4508-ACB8-5F03ADB0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B9DD3-D91D-4716-B320-41657631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DEA89-9CE4-4852-AD4F-CADB0B0C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54B90-BE9F-4AD2-AD1F-17358F14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2FBF0-BB5C-48CE-87A4-E247864F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D21E9-E0B9-4388-BED6-26659F0F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B44B2-776C-465A-A34B-63E3C4DA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C71BC-F42F-4988-BC5D-1122062D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B52-B215-4466-9AE8-E8A35A22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B1468-3019-4B5C-92B1-1E4D6B61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11FD9-980A-4181-A24F-2FE66D90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CA614-5213-427B-AE52-9E56EA81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AAC42-969F-4B38-8EA2-B9CC8926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B43CE-954E-4EED-BCCE-B6D4BF6F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B54E0-C201-4CD4-86C4-9F568E70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AD758-404F-4198-A1BC-09250E02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CF11E-E0F1-4CA0-8DF8-84E919B1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CEAC4-2AAD-4093-B060-AD1D82CD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D0266-6D83-4B32-AEC8-B7DB3B3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EA81-72E2-476C-A3DE-2A624C15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0A388-0D73-4C84-9B74-76A5CA83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ED110-5E3E-4281-ABF3-89FED97C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E7369-194D-469A-930D-62623899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E7E60-3C31-45DA-AF91-7108F123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A3B8F-5748-4400-A083-D5A8BAD5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5420F-1B24-49DF-9283-B4483D18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08D67-E6AE-4AE6-BFBB-1C575AA1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F63FD-F0E2-4D54-A993-196E1676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658A4-FB97-4647-B2AA-1DBE7FC7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A8BA1-C0A6-4E78-9E13-55111C81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4385-EF1A-4751-9A3A-61FC2F00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4953A-3B8B-4266-A050-557D91D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0C2C4-FBBF-41DA-9D19-51C652B7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C2CB4-559C-475B-8BC6-5BE94AF0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D2502-FD5C-44ED-A18E-40DCCE98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A634E-3650-4AA2-8F90-23C8F29C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F3FD-9297-4172-A0C5-E5F6D956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5AF0-A4BA-4F51-BB05-EB1FE329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88A0-D5BF-4C45-942E-7AD32183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12D7-A665-4F02-A05D-33065B27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C3F9-9C9F-454B-B06B-67EF4EBE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C91-E38A-4D75-A213-E457CE4F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0877-31EB-49D8-BBF6-279F88F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E1FB-C58A-4129-9C10-BAC89AE1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D63A-706B-4F60-8B53-B23C64A2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D647-8BB1-46F7-B850-78EBA56C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2315-7C75-4496-9267-0B4B6477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D44AB-6946-40EE-83A2-E39F7F49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3247-53F7-404B-8019-FD4D4B56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D44E-EA24-4390-BB58-5E05250C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3240-C82A-43B2-B78A-4D37B2AF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6FC6-E681-4AC7-958F-9A8E71D0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346-AB99-4177-97A2-32BC09B3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7E51-95B9-4600-A68C-1D9ED700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9C73-39C0-404B-A875-C5ED3625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BCAD-BD28-4FE7-A312-E5FFF81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A45F-2408-4B8D-8FA1-6E7F0A60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4CF7D-A403-4742-AD29-EF8654DD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03FCC-3513-4F8C-8A24-1C93E47A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2476-71EA-42E1-A734-240FF877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599D-A87A-41CD-9D83-65015595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69923-9376-43C7-BFC5-7F55B891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E319-C415-4160-AC6A-646E527B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7BB-0610-4279-8DF5-1581D46F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9DE3C-BCEB-4F6D-9C65-13A2DC12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4F3F-E86E-4817-BC52-7BCC1C8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D831D-0190-46E1-A646-F9F87E93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D081-C9CE-42C2-AFAB-2590230C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670D-88A1-45CA-82CB-EBCA0698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4F379-6076-4759-8C6D-12D9A735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B15BB-9C48-4D03-803D-81DD3BF4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F2905-C381-4D66-AD1A-1D710446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81E4E-D5AC-4DB3-80F8-20A82E2E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C6184-DD23-4C99-8109-9FF2ED51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936-D3BC-43AC-996A-6A7D9313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12EE0-6BE0-40ED-9C22-C8F26109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067DA-625D-43B8-817A-7B9CBE68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B034C-BF8B-4537-90B8-93DA47F8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E0824-7AE2-4747-A78B-0BE1BE7C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683B7-542F-4332-9ACB-55B10FC5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1897-0C5F-4770-A8E7-9040AF9A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573C0-CE8B-4F36-BC1B-C32419CD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5D0C-7777-4BFF-BE9C-363220D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97BD6-B07B-4EE7-862E-D3A8AACD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AB38F-668D-4C84-AF8D-0122B616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591-9B71-4FE0-8F7A-2AD656AD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E74DE-0352-4DA4-87E7-A7E83DB9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45BF-9950-48F2-827B-83AD51EE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E9307-1422-47B1-9D80-4CBE5717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4608A-FD16-4AB4-BBEE-7B02B104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DEC02-6AEF-4C89-BA52-83E63397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B66F9-6477-4483-9D1B-02615A5C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9E294-79E3-427A-8C2D-0350A588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D3F87-AEE2-40C8-B43E-2D4368EC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94A7F-8723-4F1A-8C71-6777DBD0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9BACB-1CFA-41D7-95A4-36F520CA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057-4207-45A1-8260-84E3F933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93D74-AEA9-422C-A542-F24186F4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5845F-A327-473B-A8BB-128ED466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3D822-43FA-431C-A6A1-0FA167C7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EEE54-F478-44E2-935F-56B61EE6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21ED8-3CE0-4985-A646-7E09406D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11FC6-B98E-4CCD-B728-2CBFBE3B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1FDB8-1069-4A91-9E28-A23BE476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5BCF2-49C7-4054-81AE-00DA6E74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7C5E8-D5D0-4BE5-B2B5-A4A34267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67E26-CAAC-4C5B-91F0-0431E975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75F-8961-4DAF-A4C1-C672771A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D7041-E6AA-4890-ACA3-D973D179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5064B-4469-4EB7-BD79-1965FB57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204CB-E216-44A4-8A36-04B4CEAF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77155-68F3-4D9E-B7FA-2C2ECA26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C3BE5-16FB-4F8D-B56A-16BAC68E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37436-F01C-4F84-98D4-5441F7CC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DB44E-50D3-4FA8-B9DB-D4D6ABFB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843A9-3506-4BB0-A92E-A0CED872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60C9D-ED3E-4A32-9C6C-021109E5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F1B3B-B017-4658-9CF2-9D7D56BD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EE7-B3D7-42AA-AF37-408705E6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FF2E5-E4A6-4F77-8C2D-574CC68E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011F2-F637-4BAA-86A4-A9742217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3C169-8F64-4709-A7EE-F36C02CA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0FB73-D4A0-4C75-A474-4E43DB1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B4123-522D-477B-A2FB-D99872D3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7B4F5-E732-4749-98FC-CF5C063E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82738-F048-4D0D-93F0-09B5D830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F6034-EBB6-494E-9F6C-8F8BF864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19C57-810B-4D43-A189-C56989E6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3217C-85DF-48B5-A1D1-336A8E88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CE7C-8192-4700-9DCF-58995D942DC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2F8A-7723-46AC-BFE5-C728332122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DB82-422D-459F-9F30-7A039BBD2BC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BC83-3973-4587-B2FD-959CA1E09C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0561-5E63-4AD9-97C9-8DA096BEB25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FD69-004A-475D-A53C-6BCE9F027D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4C82-7EEB-41A8-855E-214FB01F5AD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65AE-FFAE-416A-9A85-45F3118B1E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" name="Picture 18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1412-79B9-4F5C-AA64-1CED140E4931}" type="datetime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05892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0200-4229-43CE-8A24-B0562D59B8EB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CD4F-1749-400E-A707-F3DA16DE3E2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DA66-0FF1-4617-B969-3837CB3555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D573-9653-412F-9058-68D36058A6D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508B-3342-40F1-A766-72A1D67CBC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790D-C42A-462A-8C7C-FD522020B7D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1346-0A4C-4557-8E35-C7E508E5F6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304C-088A-4A7E-AFE8-C7047F06767D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BF9B-AB29-4E1F-9D77-43259C92C9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CD93-B2DF-4CFD-8E62-6C28FD8F297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8B4-AB8B-4C1E-A247-9BF7338B90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7F8B-DC24-44AD-A3FE-08F3259A1F7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B790-C02D-43D0-A692-1AC87B8145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E205-5DF6-47F4-B81E-57724EEE726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14F2-33AA-418A-90D2-7EB71D4343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ozlovaklara@csz.cz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F467-B5FC-403B-81CC-CB3AE98A99C4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A735-15B9-4573-8753-C5A3E5B30F72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7631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CZ.1.04/3.4.04/26.00335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547280" y="4581360"/>
            <a:ext cx="60469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Klára Čmolíková Coz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Arial"/>
              </a:rPr>
              <a:t>Český svaz ž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6465-7683-4546-871B-F9ED0CF27102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C4A7-F499-4F69-BEAD-18A5660E178A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Díky za Vaši pozornost.</a:t>
            </a:r>
            <a:br>
              <a:rPr sz="4800"/>
            </a:b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Prostor pro dotaz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050560" y="4066920"/>
            <a:ext cx="604548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zlovaklara@csz.cz</a:t>
            </a: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FE2A-BD62-4691-9B8D-14FB4B61738E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5651-4580-45B7-8F80-F67B51B7CBC3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77929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ktura prezent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í se na genderovou lini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ení projektů ČSŽ a jejich hlavních cíl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DB32-38F9-40A2-A743-56DC885370BB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Genderová rovnost v projekte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amotné tvoření výzev obsahuje či neobsahuje téma (vědomě či nevědomě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ční tým a 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é zaměření (zvyšování povědomí o rovnos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ímé zaměření (zaměření se na rizikové skupiny a jejich posilován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í vadí či nevadí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y ženské skupin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žský prvek a genderové stereoty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4890-67ED-4D16-AFDD-261EEFC2508A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3DC6-63CF-48AC-B4BA-B14B71310D47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80438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rojekty ČSŽ pro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žen při vstupu na trh práce a odstraňování bariér – Středočeský kra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Z.1.04/3.4.04/26.003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genderovou lin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posílit dovednosti na trhu práce CZ.1.04/3.3.05/31.002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znevýhodnění na základě věk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E6EC-95A6-4210-B0D8-4246DA8AD000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3C91-7863-47C6-949A-827CD7D97D1F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ová skupina a její specif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aměstnané ženy, registrované na ú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eny (muži), pečující o dítě do 15 let vě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ové aktivity pro cílovou skupi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ítačové kurzy (základní, nadstavb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tví (sociální, právní, psychologické, kariér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á genderová rov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kendové školení aktivistek v prorodinné poli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até stoly se zastupiteli a zastupitelk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Zaměření se na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1125000"/>
            <a:ext cx="40402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áno projektov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j. aktivity jsou poskytovány ve výjezdové formě (např. v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lad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Mla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oleslav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Berou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br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le i v rámci Informačního a poradenského centra v Praze (poradenské a počítačové místnosti, zázemí projektu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9400" y="21463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Zástupný symbol pro zápatí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6. 6. 2011 Prag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Zástupný symbol pro číslo snímku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D9BE-77CD-419E-95EE-8B45D1725E61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rcRect l="15583" t="32889" r="36750" b="4591"/>
          <a:stretch/>
        </p:blipFill>
        <p:spPr>
          <a:xfrm>
            <a:off x="3995640" y="1341360"/>
            <a:ext cx="5148360" cy="532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042B-E161-4C9B-A8D3-541D6DFC7121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amě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1700280"/>
            <a:ext cx="8486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ženy, genderově senzitiv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skupinky, podpora vytvoření podpůrné skupiny, individuální přís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lně si být vědomé genderových stereotypů a předsudků, nepodporovat je naopak proti nim bojovat a zvědomovat je i uživatelk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m cílem je posílení vlastních schopností uživatelek k překonání období nezaměstna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Zástupný symbol pro zápatí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Zástupný symbol pro číslo snímku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C496-CC3D-4375-9390-C115D385093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1225-4CFB-4C7A-89ED-078797BDD43E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A46D-CCC5-40AA-97AD-3BA1A2345D43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5640" y="107784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Náš příst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915920"/>
            <a:ext cx="819972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ividuální přístup nabízející adekvátní pomoc vzhledem ke konkrétní situaci uživatelky (včetně individuálního poradenství a vedení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ilování uživatelek ve schopnosti odhalit různé druhy diskriminace a náležitě se proti nim bránit (včetně možnosti právního poradenství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kytnout znalosti a dovednosti k tomu, aby byly schopné uspět na trhu prá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CV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četně průvodního dopis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motivační dop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komunikovat s potenciálním zaměstnavatelem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se připravit na přijímací řízen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C949-A179-421F-BA20-47FC3BB6BB73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8542-F818-46B6-9AAD-53C9210DFE8E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15640" y="1190160"/>
            <a:ext cx="77929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 legislativní zakotvení diskriminace stále existuje ve všech oblastech života, včetně zaměstnán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iskriminace je široce přijímána – jako prostý fakt, koncept diskriminace je brán za něco „doveženého“ a není pro nás téma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diskriminace se často nebrání, ani soudně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trach z výsledku a budoucnosti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si nejsou jisté, jaký může mít případný soudní spor výsledek, soudní spory jsou náročné (časově, finančně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mají dostatečné informace (včetně průběhu a možností pomoci)</a:t>
            </a:r>
            <a:r>
              <a:rPr b="0" lang="cs-CZ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čná informovanost o problematice je i v širší společnosti, bohužel i mezi profesionály a profesionálka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utnost respektovat rozhodnutí uživatelk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7:06:48Z</dcterms:created>
  <dc:creator>Klára Cozlová</dc:creator>
  <dc:description/>
  <dc:language>en-US</dc:language>
  <cp:lastModifiedBy>prednaska</cp:lastModifiedBy>
  <dcterms:modified xsi:type="dcterms:W3CDTF">2011-07-27T08:04:11Z</dcterms:modified>
  <cp:revision>49</cp:revision>
  <dc:subject/>
  <dc:title>The position of seniors and people over 50 in Czech republic and advocacy services for discrimination victims</dc:title>
</cp:coreProperties>
</file>